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224-B422-4454-94FF-FDE7FD9B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E8F-F7ED-466C-9F5D-94219501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589-FEFA-4C55-ACFD-59689BE8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8A2-6822-4261-BB79-A42DD16A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A63-72EB-458E-A583-9089CB70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708-2E90-4BAD-922D-F6226214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447-9735-450A-AC9C-EDA7783A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08E-329C-4709-A51E-1A810F63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89B-6124-4B26-A5AF-58A0E88A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B9E-89BB-4EAF-B2D9-7F56BAE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39A-1A60-4EFB-AEC0-9339661D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A68-B336-4960-8782-D8712F0A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5D91-D23B-487E-A04F-F3A1CD81AA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</cp:lastModifiedBy>
  <dcterms:modified xsi:type="dcterms:W3CDTF">2016-06-16T13:07:55Z</dcterms:modified>
  <cp:revision>827</cp:revision>
  <dc:subject/>
  <dc:title>Free PPT Backgrounds</dc:title>
</cp:coreProperties>
</file>